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7562850" cy="1068863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E868E-488D-4C0D-9816-F557967099B8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B9FEA-3C85-47FA-8BEF-6127934219C5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360520" y="812880"/>
            <a:ext cx="283680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B719-3250-44B8-A476-B0BD508F0C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280" y="3320640"/>
            <a:ext cx="642636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9840"/>
            <a:ext cx="68040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4080"/>
            <a:ext cx="68040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2F9B-81B9-4DD0-9291-14A4838D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280" y="3320640"/>
            <a:ext cx="642636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9840"/>
            <a:ext cx="332028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600" y="2499840"/>
            <a:ext cx="332028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4080"/>
            <a:ext cx="332028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600" y="6184080"/>
            <a:ext cx="332028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79B79-8685-490B-B825-234FFDBB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280" y="3320640"/>
            <a:ext cx="642636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9840"/>
            <a:ext cx="21906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499840"/>
            <a:ext cx="21906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499840"/>
            <a:ext cx="21906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4080"/>
            <a:ext cx="21906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6184080"/>
            <a:ext cx="21906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6184080"/>
            <a:ext cx="21906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10F76-88C6-4DE3-AD5A-AC0C38ED52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6280" y="3320640"/>
            <a:ext cx="642636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9840"/>
            <a:ext cx="68040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0A57A-5208-410C-BAAC-42C6EE45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280" y="3320640"/>
            <a:ext cx="642636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9840"/>
            <a:ext cx="68040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A96B-AB97-4881-9F61-D4529BF7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280" y="3320640"/>
            <a:ext cx="642636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9840"/>
            <a:ext cx="332028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600" y="2499840"/>
            <a:ext cx="332028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3893-0FC3-4F5A-ACAD-16B7ACD0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280" y="3320640"/>
            <a:ext cx="642636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4572-E613-42EE-8F3F-EA228071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6280" y="3320640"/>
            <a:ext cx="6426360" cy="10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9B3E-63CF-4D82-ACED-6A274FA6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280" y="3320640"/>
            <a:ext cx="642636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9840"/>
            <a:ext cx="332028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600" y="2499840"/>
            <a:ext cx="332028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4080"/>
            <a:ext cx="332028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4BF9-053E-40CF-9F65-350C1EFA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280" y="3320640"/>
            <a:ext cx="642636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9840"/>
            <a:ext cx="332028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600" y="2499840"/>
            <a:ext cx="332028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600" y="6184080"/>
            <a:ext cx="332028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5B92-4EE4-4190-B170-D66CC80A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280" y="3320640"/>
            <a:ext cx="642636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9840"/>
            <a:ext cx="332028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600" y="2499840"/>
            <a:ext cx="332028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4080"/>
            <a:ext cx="68040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4A24-A9A0-4EC2-B933-C1E02FB3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6280" y="3320640"/>
            <a:ext cx="642636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78000" y="9907560"/>
            <a:ext cx="17618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01/12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584440" y="9907560"/>
            <a:ext cx="2394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5419440" y="9907560"/>
            <a:ext cx="17622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246555-C7FE-4F2F-96DC-1BC323405E7C}" type="slidenum">
              <a:rPr b="0" lang="fr-FR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78000" y="2499840"/>
            <a:ext cx="68040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exemplodecv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2759040"/>
            <a:ext cx="3132000" cy="2156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7562880" cy="590400"/>
          </a:xfrm>
          <a:prstGeom prst="rect">
            <a:avLst/>
          </a:prstGeom>
          <a:solidFill>
            <a:srgbClr val="6c6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776160" cy="590400"/>
          </a:xfrm>
          <a:prstGeom prst="rect">
            <a:avLst/>
          </a:prstGeom>
          <a:solidFill>
            <a:srgbClr val="f38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14480" y="23760"/>
            <a:ext cx="2495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licia Martin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460680" y="82440"/>
            <a:ext cx="3792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alibri"/>
              </a:rPr>
              <a:t>C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132000" y="590400"/>
            <a:ext cx="165240" cy="10096560"/>
          </a:xfrm>
          <a:prstGeom prst="rect">
            <a:avLst/>
          </a:prstGeom>
          <a:solidFill>
            <a:srgbClr val="d9d9d9"/>
          </a:solidFill>
          <a:ln w="9360">
            <a:solidFill>
              <a:srgbClr val="59595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9218520"/>
            <a:ext cx="7562880" cy="1479600"/>
          </a:xfrm>
          <a:prstGeom prst="rect">
            <a:avLst/>
          </a:prstGeom>
          <a:solidFill>
            <a:srgbClr val="6c6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722160" y="9218520"/>
            <a:ext cx="449280" cy="1470240"/>
          </a:xfrm>
          <a:prstGeom prst="rect">
            <a:avLst/>
          </a:prstGeom>
          <a:solidFill>
            <a:srgbClr val="f38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1171440" y="9321840"/>
            <a:ext cx="1887840" cy="1252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 rot="16200000">
            <a:off x="2281680" y="1197000"/>
            <a:ext cx="12492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BRE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174600" y="801720"/>
            <a:ext cx="2276640" cy="15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Descrever brevemente sua trajetória profissional, suas habilidades e competências chave para o cargo pretendido e seus objetivos de carreira. Esta é uma introdução à sua carta de apresent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160200" y="3098880"/>
            <a:ext cx="262080" cy="1520640"/>
          </a:xfrm>
          <a:prstGeom prst="rect">
            <a:avLst/>
          </a:prstGeom>
          <a:solidFill>
            <a:srgbClr val="bfbfbf"/>
          </a:solidFill>
          <a:ln w="93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44600" y="3405240"/>
            <a:ext cx="261720" cy="1214280"/>
          </a:xfrm>
          <a:prstGeom prst="rect">
            <a:avLst/>
          </a:prstGeom>
          <a:solidFill>
            <a:srgbClr val="c0504d"/>
          </a:solidFill>
          <a:ln w="93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728640" y="3230640"/>
            <a:ext cx="262080" cy="1390680"/>
          </a:xfrm>
          <a:prstGeom prst="rect">
            <a:avLst/>
          </a:prstGeom>
          <a:solidFill>
            <a:srgbClr val="f79646"/>
          </a:solidFill>
          <a:ln w="93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990720" y="3317760"/>
            <a:ext cx="261720" cy="1301760"/>
          </a:xfrm>
          <a:prstGeom prst="rect">
            <a:avLst/>
          </a:prstGeom>
          <a:solidFill>
            <a:srgbClr val="1f497d"/>
          </a:solidFill>
          <a:ln w="93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1254240" y="3803760"/>
            <a:ext cx="122544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Criativ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Comun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rganiz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 rot="16200000">
            <a:off x="2032560" y="3633120"/>
            <a:ext cx="17474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RSON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452680" y="3905280"/>
            <a:ext cx="111240" cy="106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2452680" y="4079880"/>
            <a:ext cx="111240" cy="1062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2452680" y="4262400"/>
            <a:ext cx="111240" cy="1065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2449440" y="4456080"/>
            <a:ext cx="111240" cy="10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 rot="16200000">
            <a:off x="2223360" y="6015600"/>
            <a:ext cx="1293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ORM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160200" y="5337000"/>
            <a:ext cx="26784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Universidade/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Descrever as características do curso: instituição, diploma obtid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Universidade /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Descrever as características do curso: instituição, diploma obtid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Universidade /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Descrever as características do curso: instituição, diploma obtid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Universidade /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Descrever as características do curso: instituição, diploma obtid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 rot="16200000">
            <a:off x="2206800" y="8209800"/>
            <a:ext cx="13266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SS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225360" y="7953480"/>
            <a:ext cx="2462400" cy="8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7f7f7f"/>
                </a:solidFill>
                <a:latin typeface="Calibri"/>
                <a:ea typeface="Calibri"/>
              </a:rPr>
              <a:t>Lorem ipsum dolor sit amet, consectetur adipiscing elit. Quisque eu mollis ex. In ac nulla vel nibh lacinia faucibus a vel elit. Aliquam pulvinar fringilla vulputa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6"/>
          <p:cNvSpPr/>
          <p:nvPr/>
        </p:nvSpPr>
        <p:spPr>
          <a:xfrm rot="16200000">
            <a:off x="2805480" y="1338120"/>
            <a:ext cx="13924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PER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7"/>
          <p:cNvSpPr/>
          <p:nvPr/>
        </p:nvSpPr>
        <p:spPr>
          <a:xfrm>
            <a:off x="3821040" y="847800"/>
            <a:ext cx="3544920" cy="32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EMPRESA /  CARGO / 2009 – Aujourd’h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escrever as atividades exercidas no cargo, listando suas atribuições e resultados obtidos, de preferência quantificando-o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EMPRESA /  CARGO / 2009 – Aujourd’h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escrever as atividades exercidas no cargo, listando suas atribuições e resultados obtidos, de preferência quantificando-o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EMPRESA /  CARGO / 2009 – Aujourd’h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escrever as atividades exercidas no cargo, listando suas atribuições e resultados obtidos, de preferência quantificando-o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EMPRESA /  CARGO / 2009 – Aujourd’h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escrever as atividades exercidas no cargo, listando suas atribuições e resultados obtidos, de preferência quantificando-o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8"/>
          <p:cNvSpPr/>
          <p:nvPr/>
        </p:nvSpPr>
        <p:spPr>
          <a:xfrm rot="16200000">
            <a:off x="2791080" y="5214240"/>
            <a:ext cx="142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HABI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21040" y="4619520"/>
          <a:ext cx="3351240" cy="1484280"/>
        </p:xfrm>
        <a:graphic>
          <a:graphicData uri="http://schemas.openxmlformats.org/drawingml/2006/table">
            <a:tbl>
              <a:tblPr/>
              <a:tblGrid>
                <a:gridCol w="3351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 7 &amp;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P MySQ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words 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34"/>
          <p:cNvSpPr/>
          <p:nvPr/>
        </p:nvSpPr>
        <p:spPr>
          <a:xfrm>
            <a:off x="5445000" y="5072040"/>
            <a:ext cx="1724040" cy="1587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5445000" y="5457960"/>
            <a:ext cx="1724040" cy="1587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5445000" y="5823000"/>
            <a:ext cx="1724040" cy="1587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5445000" y="4699080"/>
            <a:ext cx="1724040" cy="1587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705720" y="4699080"/>
            <a:ext cx="172800" cy="172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3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92960" y="5057640"/>
            <a:ext cx="172800" cy="17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3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705720" y="5443560"/>
            <a:ext cx="172800" cy="17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3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878520" y="5823000"/>
            <a:ext cx="173160" cy="17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3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03840" y="6454800"/>
          <a:ext cx="3350880" cy="1484280"/>
        </p:xfrm>
        <a:graphic>
          <a:graphicData uri="http://schemas.openxmlformats.org/drawingml/2006/table">
            <a:tbl>
              <a:tblPr/>
              <a:tblGrid>
                <a:gridCol w="3350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ê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lê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m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47"/>
          <p:cNvSpPr/>
          <p:nvPr/>
        </p:nvSpPr>
        <p:spPr>
          <a:xfrm>
            <a:off x="5529240" y="6907320"/>
            <a:ext cx="1724040" cy="1587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5529240" y="7292880"/>
            <a:ext cx="1724040" cy="1587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5529240" y="7658280"/>
            <a:ext cx="1724040" cy="158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0"/>
          <p:cNvSpPr/>
          <p:nvPr/>
        </p:nvSpPr>
        <p:spPr>
          <a:xfrm>
            <a:off x="5529240" y="6534000"/>
            <a:ext cx="1724040" cy="1587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1"/>
          <p:cNvSpPr/>
          <p:nvPr/>
        </p:nvSpPr>
        <p:spPr>
          <a:xfrm>
            <a:off x="6788160" y="6534000"/>
            <a:ext cx="173160" cy="17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2"/>
          <p:cNvSpPr/>
          <p:nvPr/>
        </p:nvSpPr>
        <p:spPr>
          <a:xfrm>
            <a:off x="6575400" y="6892920"/>
            <a:ext cx="173160" cy="17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3"/>
          <p:cNvSpPr/>
          <p:nvPr/>
        </p:nvSpPr>
        <p:spPr>
          <a:xfrm>
            <a:off x="6788160" y="7280280"/>
            <a:ext cx="173160" cy="17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4"/>
          <p:cNvSpPr/>
          <p:nvPr/>
        </p:nvSpPr>
        <p:spPr>
          <a:xfrm>
            <a:off x="6961320" y="7658280"/>
            <a:ext cx="172800" cy="172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5"/>
          <p:cNvSpPr/>
          <p:nvPr/>
        </p:nvSpPr>
        <p:spPr>
          <a:xfrm rot="16200000">
            <a:off x="3138840" y="6950880"/>
            <a:ext cx="9064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348080" y="9402840"/>
          <a:ext cx="3043440" cy="1206360"/>
        </p:xfrm>
        <a:graphic>
          <a:graphicData uri="http://schemas.openxmlformats.org/drawingml/2006/table">
            <a:tbl>
              <a:tblPr/>
              <a:tblGrid>
                <a:gridCol w="3043440"/>
              </a:tblGrid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AIL : MAIL@MAIL.C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 : (01) 123 3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TEWEB : HTTP://SITE.C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D : 12 LOREM DOLOR SIT AM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Picture 62" descr=""/>
          <p:cNvPicPr/>
          <p:nvPr/>
        </p:nvPicPr>
        <p:blipFill>
          <a:blip r:embed="rId2"/>
          <a:stretch/>
        </p:blipFill>
        <p:spPr>
          <a:xfrm>
            <a:off x="4097160" y="9756720"/>
            <a:ext cx="81000" cy="15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3" descr=""/>
          <p:cNvPicPr/>
          <p:nvPr/>
        </p:nvPicPr>
        <p:blipFill>
          <a:blip r:embed="rId3"/>
          <a:stretch/>
        </p:blipFill>
        <p:spPr>
          <a:xfrm>
            <a:off x="4097160" y="10104480"/>
            <a:ext cx="101880" cy="101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4" descr=""/>
          <p:cNvPicPr/>
          <p:nvPr/>
        </p:nvPicPr>
        <p:blipFill>
          <a:blip r:embed="rId4"/>
          <a:stretch/>
        </p:blipFill>
        <p:spPr>
          <a:xfrm>
            <a:off x="4091040" y="10410840"/>
            <a:ext cx="111240" cy="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78000" y="678960"/>
            <a:ext cx="6806880" cy="886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alibri"/>
              </a:rPr>
              <a:t>Querido candidat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Obrigado por baixar este modelo de nosso site. Esperamos que ajude você a mostrar seu currículo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Reserve um tempo para escrever seu aplicativo com cuidado, pois ele descreve sua experiência profissional e sua personalidad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Lembre-se de que um bom aplicativo é um aplicativo personalizado!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e precisar de outros modelos, volte ao nosso site : </a:t>
            </a:r>
            <a:r>
              <a:rPr b="0" lang="fr-FR" sz="1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S://WWW.EXEMPLODECV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alibri"/>
              </a:rPr>
              <a:t>Copyright EXEMPLODECV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Os conteúdos publicados no nosso site (modelos de CV, modelos de cartas, artigos, etc.) são propriedade da EXEMPLODECV.com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000" spc="-1" strike="noStrike">
                <a:solidFill>
                  <a:srgbClr val="00b050"/>
                </a:solidFill>
                <a:latin typeface="Calibri"/>
              </a:rPr>
              <a:t>O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     Seu uso é limitado ao uso estritamente pessoa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     É proibido distribuir, publicar ou redistribuí-los sem o nosso consentimento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     Também é proibido dar acesso ao link de download ou ao link de edição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Conteúdo depositado em 180 países perante um oficial de justiça. Reprodução estritamente proibida, mesmo parcial. Limitado ao uso estritamente pessoa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-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595959"/>
                </a:solidFill>
                <a:latin typeface="Calibri"/>
              </a:rPr>
              <a:t>Os modelos disponíveis em nosso site são fornecidos "no estado em que se encontram" e sem garanti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exemplodecv.com</dc:creator>
  <dc:description/>
  <cp:keywords/>
  <dc:language>en-US</dc:language>
  <cp:lastModifiedBy>Axel Maille</cp:lastModifiedBy>
  <dcterms:modified xsi:type="dcterms:W3CDTF">2020-12-28T13:06:19Z</dcterms:modified>
  <cp:revision>19</cp:revision>
  <dc:subject/>
  <dc:title>cv 70</dc:title>
</cp:coreProperties>
</file>